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6.gif" ContentType="image/gif"/>
  <Override PartName="/ppt/media/image22.gif" ContentType="image/gif"/>
  <Override PartName="/ppt/media/image18.jpeg" ContentType="image/jpeg"/>
  <Override PartName="/ppt/media/image7.gif" ContentType="image/gif"/>
  <Override PartName="/ppt/media/image12.gif" ContentType="image/gif"/>
  <Override PartName="/ppt/media/image24.jpeg" ContentType="image/jpeg"/>
  <Override PartName="/ppt/media/image13.gif" ContentType="image/gif"/>
  <Override PartName="/ppt/media/image8.gif" ContentType="image/gif"/>
  <Override PartName="/ppt/media/image33.gif" ContentType="image/gif"/>
  <Override PartName="/ppt/media/image10.gif" ContentType="image/gif"/>
  <Override PartName="/ppt/media/image30.gif" ContentType="image/gif"/>
  <Override PartName="/ppt/media/image16.jpeg" ContentType="image/jpeg"/>
  <Override PartName="/ppt/media/image9.gif" ContentType="image/gif"/>
  <Override PartName="/ppt/media/image31.jpeg" ContentType="image/jpeg"/>
  <Override PartName="/ppt/media/image32.png" ContentType="image/png"/>
  <Override PartName="/ppt/media/image4.gif" ContentType="image/gif"/>
  <Override PartName="/ppt/media/image1.jpeg" ContentType="image/jpeg"/>
  <Override PartName="/ppt/media/image11.jpeg" ContentType="image/jpeg"/>
  <Override PartName="/ppt/media/image3.png" ContentType="image/png"/>
  <Override PartName="/ppt/media/image23.gif" ContentType="image/gif"/>
  <Override PartName="/ppt/media/image2.jpeg" ContentType="image/jpeg"/>
  <Override PartName="/ppt/media/image5.png" ContentType="image/png"/>
  <Override PartName="/ppt/media/image25.gif" ContentType="image/gif"/>
  <Override PartName="/ppt/media/image6.jpeg" ContentType="image/jpeg"/>
  <Override PartName="/ppt/media/image15.gif" ContentType="image/gif"/>
  <Override PartName="/ppt/media/image27.gif" ContentType="image/gif"/>
  <Override PartName="/ppt/media/image28.jpeg" ContentType="image/jpeg"/>
  <Override PartName="/ppt/media/image17.gif" ContentType="image/gif"/>
  <Override PartName="/ppt/media/image21.jpeg" ContentType="image/jpeg"/>
  <Override PartName="/ppt/media/image14.jpeg" ContentType="image/jpeg"/>
  <Override PartName="/ppt/media/image19.gif" ContentType="image/gif"/>
  <Override PartName="/ppt/media/image2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BBB-A313-46B7-9693-D7A4F6B9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EE7-852F-43C8-B3C2-E81F4CF5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B49E-3375-4572-86EF-34E59159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3FE-F767-42BB-86E6-CF7BA152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4B0-8754-4693-A611-202BBD6B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4D86-51FC-4C18-8E0C-18947008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55B-C4C1-41C3-AACD-E3835DA3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9251-970E-4CA8-808A-8AE01583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DB1F-942D-4DCE-B8FD-203554CA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9400-2429-458B-9BA0-B0B00FF0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10A1-7396-4BEB-8348-50FD8B3D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F53E-290E-49B1-9349-C1A8AA8F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2637-4DE5-4460-8FAE-7913986941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smayli.ru/smile/jivotniea-2495.html" TargetMode="External"/><Relationship Id="rId3" Type="http://schemas.openxmlformats.org/officeDocument/2006/relationships/image" Target="../media/image22.gif"/><Relationship Id="rId4" Type="http://schemas.openxmlformats.org/officeDocument/2006/relationships/hyperlink" Target="http://www.smayli.ru/smile/jivotniea-932.html" TargetMode="External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smayli.ru/smile/jivotniea-3216.html" TargetMode="External"/><Relationship Id="rId3" Type="http://schemas.openxmlformats.org/officeDocument/2006/relationships/image" Target="../media/image25.gif"/><Relationship Id="rId4" Type="http://schemas.openxmlformats.org/officeDocument/2006/relationships/hyperlink" Target="http://www.smayli.ru/smile/jivotniea-879.html" TargetMode="External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004.radikal.ru/i205/1003/76/1b5ef6b54973t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004.radikal.ru/i205/1003/76/1b5ef6b54973t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smayli.ru/smile/jivotniea-3060.html" TargetMode="External"/><Relationship Id="rId4" Type="http://schemas.openxmlformats.org/officeDocument/2006/relationships/image" Target="../media/image7.gif"/><Relationship Id="rId5" Type="http://schemas.openxmlformats.org/officeDocument/2006/relationships/hyperlink" Target="http://www.smayli.ru/smile/mishia-76.html" TargetMode="External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004.radikal.ru/i205/1003/76/1b5ef6b54973t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smayli.ru/smile/jivotniea-2794.html" TargetMode="Externa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004.radikal.ru/i205/1003/76/1b5ef6b54973t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smayli.ru/smile/jivotniea-1090.html" TargetMode="Externa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smayli.ru/smile/multyashki-2225.html" TargetMode="External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smayli.ru/smile/mishia-53.html" TargetMode="Externa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43.radikal.ru/i100/1007/c3/92168b0c0666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smayli.ru/smile/jivotniea-3266.html" TargetMode="External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smayli.ru/smile/jivotniea-3565.html" TargetMode="Externa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smayli.ru/smile/jivotniea-3106.html" TargetMode="External"/><Relationship Id="rId3" Type="http://schemas.openxmlformats.org/officeDocument/2006/relationships/image" Target="../media/image19.gif"/><Relationship Id="rId4" Type="http://schemas.openxmlformats.org/officeDocument/2006/relationships/hyperlink" Target="http://www.smayli.ru/smile/jivotniea-1787.html" TargetMode="Externa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artice.ru/uploads/posts/2009-10/1256649127_chipmunk.jpg"/>
          <p:cNvPicPr/>
          <p:nvPr/>
        </p:nvPicPr>
        <p:blipFill>
          <a:blip r:embed="rId1"/>
          <a:srcRect l="0" t="0" r="0" b="8003"/>
          <a:stretch/>
        </p:blipFill>
        <p:spPr>
          <a:xfrm>
            <a:off x="20520" y="0"/>
            <a:ext cx="92394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2620800" y="2048040"/>
            <a:ext cx="3908520" cy="196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www.animashki.net/uploads/cat-1141612970/86879xp9scaus8n.gif"/>
          <p:cNvPicPr/>
          <p:nvPr/>
        </p:nvPicPr>
        <p:blipFill>
          <a:blip r:embed="rId3"/>
          <a:stretch/>
        </p:blipFill>
        <p:spPr>
          <a:xfrm>
            <a:off x="5003640" y="4292640"/>
            <a:ext cx="2381400" cy="2200320"/>
          </a:xfrm>
          <a:prstGeom prst="rect">
            <a:avLst/>
          </a:prstGeom>
          <a:ln w="0">
            <a:noFill/>
          </a:ln>
        </p:spPr>
      </p:pic>
      <p:pic>
        <p:nvPicPr>
          <p:cNvPr id="45" name="бурундуки физминутка.mp3" descr=""/>
          <p:cNvPicPr/>
          <p:nvPr/>
        </p:nvPicPr>
        <p:blipFill>
          <a:blip r:embed="rId4"/>
          <a:stretch/>
        </p:blipFill>
        <p:spPr>
          <a:xfrm>
            <a:off x="324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i056.radikal.ru/1001/35/1a0fb499508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Анимашки Животные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2997360"/>
            <a:ext cx="2232000" cy="29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Анимашки Животные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3645000"/>
            <a:ext cx="158436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1.i.ua/prikol/pic/8/0/558208_531073.jpg"/>
          <p:cNvPicPr/>
          <p:nvPr/>
        </p:nvPicPr>
        <p:blipFill>
          <a:blip r:embed="rId1"/>
          <a:srcRect l="0" t="0" r="0" b="17314"/>
          <a:stretch/>
        </p:blipFill>
        <p:spPr>
          <a:xfrm>
            <a:off x="-103320" y="-96840"/>
            <a:ext cx="9247320" cy="6954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Анимашки Животные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4581360"/>
            <a:ext cx="1584360" cy="2014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Анимашки Животные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5640" y="5157720"/>
            <a:ext cx="147312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Картинка 11 из 9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gr111"/>
          <p:cNvPicPr/>
          <p:nvPr/>
        </p:nvPicPr>
        <p:blipFill>
          <a:blip r:embed="rId3"/>
          <a:stretch/>
        </p:blipFill>
        <p:spPr>
          <a:xfrm>
            <a:off x="3276720" y="2421000"/>
            <a:ext cx="287964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Картинка 148 из 960"/>
          <p:cNvPicPr/>
          <p:nvPr/>
        </p:nvPicPr>
        <p:blipFill>
          <a:blip r:embed="rId1"/>
          <a:stretch/>
        </p:blipFill>
        <p:spPr>
          <a:xfrm>
            <a:off x="-46080" y="0"/>
            <a:ext cx="919008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Documents and Settings\Admin\Рабочий стол\chip_i_deil12.gif"/>
          <p:cNvPicPr/>
          <p:nvPr/>
        </p:nvPicPr>
        <p:blipFill>
          <a:blip r:embed="rId2"/>
          <a:stretch/>
        </p:blipFill>
        <p:spPr>
          <a:xfrm>
            <a:off x="3132000" y="321300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Картинка 148 из 960"/>
          <p:cNvPicPr/>
          <p:nvPr/>
        </p:nvPicPr>
        <p:blipFill>
          <a:blip r:embed="rId1"/>
          <a:stretch/>
        </p:blipFill>
        <p:spPr>
          <a:xfrm>
            <a:off x="-46080" y="0"/>
            <a:ext cx="919008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Анимашки Мультяшки"/>
          <p:cNvPicPr/>
          <p:nvPr/>
        </p:nvPicPr>
        <p:blipFill>
          <a:blip r:embed="rId2"/>
          <a:stretch/>
        </p:blipFill>
        <p:spPr>
          <a:xfrm>
            <a:off x="3276720" y="2852640"/>
            <a:ext cx="251928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nifiga-sebe.ru/uploads/posts/2009-04/1238859515_80.jpg"/>
          <p:cNvPicPr/>
          <p:nvPr/>
        </p:nvPicPr>
        <p:blipFill>
          <a:blip r:embed="rId1"/>
          <a:srcRect l="0" t="0" r="0" b="6946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Овальная выноска 4"/>
          <p:cNvSpPr/>
          <p:nvPr/>
        </p:nvSpPr>
        <p:spPr>
          <a:xfrm>
            <a:off x="2484360" y="1916280"/>
            <a:ext cx="3816360" cy="2304720"/>
          </a:xfrm>
          <a:prstGeom prst="wedgeEllipseCallout">
            <a:avLst>
              <a:gd name="adj1" fmla="val -54532"/>
              <a:gd name="adj2" fmla="val 639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Прямоугольник 5" descr=""/>
          <p:cNvPicPr/>
          <p:nvPr/>
        </p:nvPicPr>
        <p:blipFill>
          <a:blip r:embed="rId2"/>
          <a:stretch/>
        </p:blipFill>
        <p:spPr>
          <a:xfrm>
            <a:off x="2395440" y="2414520"/>
            <a:ext cx="4029120" cy="1157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Анимашки Мультяшки"/>
          <p:cNvPicPr/>
          <p:nvPr/>
        </p:nvPicPr>
        <p:blipFill>
          <a:blip r:embed="rId3"/>
          <a:stretch/>
        </p:blipFill>
        <p:spPr>
          <a:xfrm>
            <a:off x="3203640" y="4146480"/>
            <a:ext cx="252072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Картинка 11 из 9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Анимашки Животны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3357720"/>
            <a:ext cx="1800000" cy="151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Анимашки Мыш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03280" y="3573360"/>
            <a:ext cx="3863880" cy="21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Картинка 11 из 9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Анимашки Животны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4076640"/>
            <a:ext cx="175428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Картинка 11 из 9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Анимашки Животны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9640" y="3573360"/>
            <a:ext cx="52941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cherrysait.narod.ru/flowers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Анимашки Мультяшк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48000" y="2619360"/>
            <a:ext cx="2664000" cy="30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cherrysait.narod.ru/flowers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Анимашки Мыш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0000" y="1716120"/>
            <a:ext cx="24476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Картинка 40 из 9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Анимашки Животны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3519360"/>
            <a:ext cx="3672000" cy="22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img0.liveinternet.ru/images/foto/b/2/apps/1/581/1581400_1269853911_09_04_2009_0237986001239230739_philip-straub.jpg"/>
          <p:cNvPicPr/>
          <p:nvPr/>
        </p:nvPicPr>
        <p:blipFill>
          <a:blip r:embed="rId1"/>
          <a:srcRect l="0" t="0" r="4044" b="0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Анимашки Животные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11280" y="3933720"/>
            <a:ext cx="2544840" cy="26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s53.radikal.ru/i140/1002/c7/1e996aabdb2d.jpg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Анимашки Животные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4497480"/>
            <a:ext cx="1692360" cy="2360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Анимашки Животные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3573360"/>
            <a:ext cx="1584360" cy="2211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9:07:46Z</dcterms:created>
  <dc:creator>User</dc:creator>
  <dc:description/>
  <dc:language>en-US</dc:language>
  <cp:lastModifiedBy>Лёня</cp:lastModifiedBy>
  <dcterms:modified xsi:type="dcterms:W3CDTF">2014-01-29T18:18:51Z</dcterms:modified>
  <cp:revision>20</cp:revision>
  <dc:subject/>
  <dc:title>Слайд 1</dc:title>
</cp:coreProperties>
</file>